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E070-EA0D-4775-9653-17360D75A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DFC0-9C58-46DD-8AB0-D957DCB975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F1AB-938E-4D18-96EE-459F069F3A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84D-6829-4275-95D1-6505605B4C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44F4-3F0C-4DBA-9BFF-63655ECFF8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BD2F-04A6-43E6-BF94-E6C8B3D813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9D43-1D26-418E-B63A-F96072E2E4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DCEE-94CD-4D61-A397-1A9CE3AD79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574-0D50-4993-83FE-49913EEEAE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AC8E-6E3D-49A7-ACE2-D3AA6D19D5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BD88-C341-4A97-890B-32E22B6C54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B493-9CE1-4FF6-86FE-F6C74C5698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6FC1-CB85-41E1-82A8-6DF22D1744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4DCA-A47E-4961-AABC-90B7F796B4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4C92-81AC-41FA-96CB-29066983BA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4B8-6FA4-4314-936E-ADCEF7F88C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77A1-D366-4613-B1D0-70793043B4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C188-3425-4C90-9BAD-DBFA85DDCA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6AC0-0646-4911-834C-B02A4DD47B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2279-EBF3-45E5-AFAC-75C26EB573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55BF-2454-4B17-B431-29BBD14158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24BC-EF15-4F02-8911-37448494FE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3A37-3FA5-47BA-A8E3-CBFFB844CC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398A-B03F-4146-A33D-A5AFA0F774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3AFA-02CA-45EB-9D74-F1B5DB70B0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7D4F-3566-46A9-9D98-F75EFBB715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7F4-DA1D-407F-8A95-E760B93242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C53E-5372-4785-B45B-A82E142DC2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D9AF-1081-443D-9B31-930C474EA3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247A-A585-4F1A-8196-EF3056A175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2545-30DE-491E-900D-840F875D0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1191-AF05-4076-B6CB-63FF2B25B9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4B07-6F69-497C-8865-8ABA5B67D0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F748-E377-4F4F-9F16-F239C67D12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A8B1-7821-4C56-BA86-195FDC6609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4751-D5F1-4969-9A04-EB8AA017FE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9874-DD60-4A51-B489-A53069A2D4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649-9955-403E-A928-501A5F90B1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19E5-5D6F-400B-828E-6B7D76079A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4E0-0263-4FEA-AE1D-759D109576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0632-2898-42F8-8686-A1B86BE7CB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E29E-D015-4E08-935B-9D1A0C197B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163A-79DA-4EAF-B0EA-C80F5F4252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2E3-9F27-4763-9E4A-EBC4CA04E0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6CD-4F42-483B-8EE7-B9A56E3DE1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A37F-D4A5-4A83-9BB1-94240AD79D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869B-3BF8-403C-93D7-A287C80FCD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869D-F6D8-4285-BBB0-C65B98495B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6190-CBCA-434C-BF46-7DE25F5B38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6E7-5A45-4328-8FD4-8C7887064B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738C-A5B8-4198-9B54-B8D4C1FB3F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DA6F-DAC5-4DE2-9BD2-94514B7E5A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1233-8985-47BF-ADF3-F479A1E1C6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342B-138E-4291-8BA1-B3993CD0F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DB93-C565-4B40-B729-17F1955764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3907-AEB2-4952-BA14-3268167627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4FDB-DBC9-4B87-BF41-D7E6CD603E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D3F-7889-4D18-A8FD-80959F9F5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D02A-1052-4E45-90D7-2709FAB44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4FC1-DC8F-416B-B389-6434163775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C651-9004-4488-BA1B-90B03A0A2F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F053-D08B-4907-929C-7E490715E8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5860-4843-4500-B5D8-8CA376ED38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8087-4B3B-49FD-BC5B-1F95B298FF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ABE-4C67-47D6-9E4A-B16C9FBFF3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90CB-5497-4E6B-8A33-082930E1CF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4ED7-FD51-4E78-AF7E-3189A210A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2D3A-2A57-4065-B311-6747FFD59D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A901-5668-45F1-BCB0-4748EE9B25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6AB4-5AE6-4AA8-85B5-D3626A75C5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71E1-31F7-4B3D-B702-3B80BC08A7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A09-537B-4A93-AE0C-AD67EDF41F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66B7-C642-4419-AA83-ACD68E8F60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2F01-8B89-485A-A0E3-DC3FD6F7D6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A6D2-E21F-4F79-8586-791706BC14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B977-A645-466F-B62E-2CCC97CD5F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32E1-E736-4DB1-975D-F37DFFF80D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8B5A-A8FB-43C1-9786-FF1690BC08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A3FA-1C0E-4B2A-801A-F5778008A4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5756-C2A9-41C9-891C-7B8970629C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28B1-3852-499B-AF5F-B50C2F22F4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6C1E-26A8-4829-8AFB-3A5B1A2FCB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BE3-B6F6-43DC-B1DE-2FFEA3E070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FF11-0128-4DB6-87D3-0BA7936C74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63F8-DA51-4922-B3F1-3BF2E19532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A38A-C2ED-41C2-AE74-0450A4DD4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3D3E-D220-41A8-8BEA-ADEE6D12CF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232D-FC0A-4404-8EFB-47CEF432A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3F6A-D8EE-41DF-BAE4-650D303D12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E0A0-196C-4F9A-B102-2D2D8F856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A0CE-0118-45A4-8742-99EFDA2AE2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AE1-24A9-4A70-8B03-2B91ADC7E6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840" y="415512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60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676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568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84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676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568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63160" y="325440"/>
            <a:ext cx="8605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60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9760" y="1163520"/>
            <a:ext cx="8561520" cy="22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Language processing: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troduction to compiler construction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46080" y="3886200"/>
            <a:ext cx="733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Frontend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troduction to parsing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using LEX and YACC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160" y="1676520"/>
            <a:ext cx="860256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a compiler is difficult requiring lots of time and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of the scanner and parser is routine enough that the process may be autom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22"/>
          <p:cNvGrpSpPr/>
          <p:nvPr/>
        </p:nvGrpSpPr>
        <p:grpSpPr>
          <a:xfrm>
            <a:off x="855720" y="3814920"/>
            <a:ext cx="7409880" cy="2500200"/>
            <a:chOff x="855720" y="3814920"/>
            <a:chExt cx="7409880" cy="2500200"/>
          </a:xfrm>
        </p:grpSpPr>
        <p:sp>
          <p:nvSpPr>
            <p:cNvPr id="108" name="AutoShape 4"/>
            <p:cNvSpPr/>
            <p:nvPr/>
          </p:nvSpPr>
          <p:spPr>
            <a:xfrm>
              <a:off x="855720" y="3814920"/>
              <a:ext cx="2052360" cy="61884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exical Ru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855720" y="4754520"/>
              <a:ext cx="2052360" cy="61920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Gramm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55720" y="5695920"/>
              <a:ext cx="2052360" cy="61920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emant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"/>
            <p:cNvSpPr/>
            <p:nvPr/>
          </p:nvSpPr>
          <p:spPr>
            <a:xfrm>
              <a:off x="3661920" y="4457880"/>
              <a:ext cx="2185920" cy="1212840"/>
            </a:xfrm>
            <a:prstGeom prst="flowChartPreparation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6690960" y="3814920"/>
              <a:ext cx="1574640" cy="2500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Scann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-------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Par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-------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Co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AutoShape 11"/>
            <p:cNvCxnSpPr>
              <a:stCxn id="108" idx="3"/>
              <a:endCxn id="114" idx="2"/>
            </p:cNvCxnSpPr>
            <p:nvPr/>
          </p:nvCxnSpPr>
          <p:spPr>
            <a:xfrm>
              <a:off x="2907720" y="4124160"/>
              <a:ext cx="906840" cy="7725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" name="AutoShape 12"/>
            <p:cNvCxnSpPr>
              <a:stCxn id="109" idx="3"/>
              <a:endCxn id="111" idx="1"/>
            </p:cNvCxnSpPr>
            <p:nvPr/>
          </p:nvCxnSpPr>
          <p:spPr>
            <a:xfrm>
              <a:off x="2907720" y="5063760"/>
              <a:ext cx="754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6" name="Oval 13"/>
            <p:cNvSpPr/>
            <p:nvPr/>
          </p:nvSpPr>
          <p:spPr>
            <a:xfrm>
              <a:off x="6697440" y="406080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90960" y="4792680"/>
              <a:ext cx="34272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6697440" y="5670720"/>
              <a:ext cx="342360" cy="204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9" name="AutoShape 16"/>
            <p:cNvCxnSpPr>
              <a:stCxn id="110" idx="3"/>
              <a:endCxn id="120" idx="2"/>
            </p:cNvCxnSpPr>
            <p:nvPr/>
          </p:nvCxnSpPr>
          <p:spPr>
            <a:xfrm flipV="1">
              <a:off x="2907720" y="5271480"/>
              <a:ext cx="906840" cy="734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" name="AutoShape 17"/>
            <p:cNvCxnSpPr>
              <a:stCxn id="111" idx="3"/>
              <a:endCxn id="116" idx="2"/>
            </p:cNvCxnSpPr>
            <p:nvPr/>
          </p:nvCxnSpPr>
          <p:spPr>
            <a:xfrm flipV="1">
              <a:off x="5848200" y="4163760"/>
              <a:ext cx="849600" cy="900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" name="AutoShape 18"/>
            <p:cNvCxnSpPr>
              <a:stCxn id="111" idx="3"/>
              <a:endCxn id="117" idx="2"/>
            </p:cNvCxnSpPr>
            <p:nvPr/>
          </p:nvCxnSpPr>
          <p:spPr>
            <a:xfrm flipV="1">
              <a:off x="5848200" y="4895280"/>
              <a:ext cx="843120" cy="168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3" name="AutoShape 19"/>
            <p:cNvCxnSpPr>
              <a:stCxn id="111" idx="3"/>
              <a:endCxn id="118" idx="2"/>
            </p:cNvCxnSpPr>
            <p:nvPr/>
          </p:nvCxnSpPr>
          <p:spPr>
            <a:xfrm>
              <a:off x="5848200" y="5063760"/>
              <a:ext cx="849600" cy="710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4" name="Oval 20"/>
            <p:cNvSpPr/>
            <p:nvPr/>
          </p:nvSpPr>
          <p:spPr>
            <a:xfrm>
              <a:off x="3814560" y="479268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21"/>
            <p:cNvSpPr/>
            <p:nvPr/>
          </p:nvSpPr>
          <p:spPr>
            <a:xfrm>
              <a:off x="3814560" y="516888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60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What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Tool which will produce a parser for a given grammar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YACC (Yet Another Compiler Compiler) is a program designed to compile a LALR(1) grammar and to produce the source code of the syntactic analyzer of the language produced by this gram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is a grammar (rules) and actions to take upon recognizing a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is a C program and optionally a header file of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EX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33240"/>
            <a:ext cx="85694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 is a scanner gen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is description of patterns and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is a C program which contains a function yylex() which, when called, matches patterns and performs actions pe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, the generated scanner performs lexical analysis and produces tokens for the (YACC-generated) par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797840" y="27216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LEX and YACC: a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982800" y="3284640"/>
          <a:ext cx="181584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284640"/>
                    <a:ext cx="18158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6367320" y="3429000"/>
          <a:ext cx="171288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7320" y="3429000"/>
                    <a:ext cx="17128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5"/>
          <p:cNvGraphicFramePr/>
          <p:nvPr/>
        </p:nvGraphicFramePr>
        <p:xfrm>
          <a:off x="3774960" y="1700280"/>
          <a:ext cx="17272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4960" y="1700280"/>
                    <a:ext cx="17272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AutoShape 6"/>
          <p:cNvSpPr/>
          <p:nvPr/>
        </p:nvSpPr>
        <p:spPr>
          <a:xfrm>
            <a:off x="3508200" y="4005360"/>
            <a:ext cx="2259360" cy="718920"/>
          </a:xfrm>
          <a:prstGeom prst="wedgeRoundRectCallout">
            <a:avLst>
              <a:gd name="adj1" fmla="val -35601"/>
              <a:gd name="adj2" fmla="val 169865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to work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804320" y="27216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LEX and YACC: a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982800" y="3284640"/>
          <a:ext cx="181584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284640"/>
                    <a:ext cx="18158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6367320" y="3429000"/>
          <a:ext cx="171288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7320" y="3429000"/>
                    <a:ext cx="17128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3774960" y="1700280"/>
          <a:ext cx="17272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4960" y="1700280"/>
                    <a:ext cx="17272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6"/>
          <p:cNvSpPr/>
          <p:nvPr/>
        </p:nvSpPr>
        <p:spPr>
          <a:xfrm>
            <a:off x="1647720" y="1700280"/>
            <a:ext cx="1927440" cy="1512720"/>
          </a:xfrm>
          <a:custGeom>
            <a:avLst/>
            <a:gdLst>
              <a:gd name="textAreaLeft" fmla="*/ 1108800 w 1927440"/>
              <a:gd name="textAreaRight" fmla="*/ 1725840 w 1927440"/>
              <a:gd name="textAreaTop" fmla="*/ 280440 h 1512720"/>
              <a:gd name="textAreaBottom" fmla="*/ 57096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68" y="0"/>
                </a:lnTo>
                <a:lnTo>
                  <a:pt x="14968" y="4006"/>
                </a:lnTo>
                <a:lnTo>
                  <a:pt x="12427" y="4006"/>
                </a:lnTo>
                <a:cubicBezTo>
                  <a:pt x="5564" y="4006"/>
                  <a:pt x="0" y="7656"/>
                  <a:pt x="0" y="12158"/>
                </a:cubicBezTo>
                <a:lnTo>
                  <a:pt x="0" y="21600"/>
                </a:lnTo>
                <a:lnTo>
                  <a:pt x="4238" y="21600"/>
                </a:lnTo>
                <a:lnTo>
                  <a:pt x="4238" y="12158"/>
                </a:lnTo>
                <a:cubicBezTo>
                  <a:pt x="4238" y="9946"/>
                  <a:pt x="7904" y="8152"/>
                  <a:pt x="12427" y="8152"/>
                </a:cubicBezTo>
                <a:lnTo>
                  <a:pt x="14968" y="8152"/>
                </a:lnTo>
                <a:lnTo>
                  <a:pt x="1496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08360" y="1471680"/>
            <a:ext cx="1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call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新細明體"/>
              </a:rPr>
              <a:t>yylex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635800" y="2060640"/>
            <a:ext cx="172224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[0-9]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5369040" y="3141720"/>
            <a:ext cx="0" cy="16556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5369040" y="4797360"/>
            <a:ext cx="1330200" cy="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6699240" y="4508640"/>
            <a:ext cx="0" cy="288720"/>
          </a:xfrm>
          <a:prstGeom prst="line">
            <a:avLst/>
          </a:prstGeom>
          <a:ln w="349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 rot="10800000">
            <a:off x="2967120" y="3223800"/>
            <a:ext cx="1869840" cy="1584360"/>
          </a:xfrm>
          <a:custGeom>
            <a:avLst/>
            <a:gdLst>
              <a:gd name="textAreaLeft" fmla="*/ 1075680 w 1869840"/>
              <a:gd name="textAreaRight" fmla="*/ 1623600 w 1869840"/>
              <a:gd name="textAreaTop" fmla="*/ 298440 h 1584360"/>
              <a:gd name="textAreaBottom" fmla="*/ 5929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973" y="0"/>
                </a:lnTo>
                <a:lnTo>
                  <a:pt x="12973" y="4072"/>
                </a:lnTo>
                <a:lnTo>
                  <a:pt x="12427" y="4072"/>
                </a:lnTo>
                <a:cubicBezTo>
                  <a:pt x="5564" y="4072"/>
                  <a:pt x="0" y="7692"/>
                  <a:pt x="0" y="12158"/>
                </a:cubicBezTo>
                <a:lnTo>
                  <a:pt x="0" y="21600"/>
                </a:lnTo>
                <a:lnTo>
                  <a:pt x="4103" y="21600"/>
                </a:lnTo>
                <a:lnTo>
                  <a:pt x="4103" y="12158"/>
                </a:lnTo>
                <a:cubicBezTo>
                  <a:pt x="4103" y="9909"/>
                  <a:pt x="7830" y="8086"/>
                  <a:pt x="12427" y="8086"/>
                </a:cubicBezTo>
                <a:lnTo>
                  <a:pt x="12973" y="8086"/>
                </a:lnTo>
                <a:lnTo>
                  <a:pt x="12973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800440" y="358128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next token is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582480" y="4869000"/>
            <a:ext cx="29926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NUM ‘+’ 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vailabilit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, yacc on most UNIX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son: a yacc replacement from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: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e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l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SD y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/MS-DOS versions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3160" y="33012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YACC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Basic Operational Sequence</a:t>
            </a:r>
            <a:endParaRPr b="0" lang="en-US" sz="2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341360" y="5849640"/>
            <a:ext cx="94320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555720" y="167328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containing desi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mar in YACC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557880" y="27558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ACC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557520" y="376560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source program created by Y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557520" y="48690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58960" y="5799240"/>
            <a:ext cx="48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able program that will p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mar given in gram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720800" y="227952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1720800" y="309888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1720800" y="420840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720800" y="532116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1265040" y="1702800"/>
            <a:ext cx="109548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m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1296720" y="2848320"/>
            <a:ext cx="1032840" cy="39924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a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1189080" y="3638160"/>
            <a:ext cx="124776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.tab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1157040" y="4783680"/>
            <a:ext cx="1311840" cy="67356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g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 File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upplementary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114880" y="5832360"/>
            <a:ext cx="38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ntical LEX format w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lly taken from thi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ules Sec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xpr : expr '+' term | ter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erm : term '*' factor | facto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actor : '(' expr ')' | ID | NU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bout this cours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art will address compilers for programming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th-first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covering all compiler aspects very briefly, we focus on particular compiler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: optimization and compiler back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rse is complementary to the compiler course at the 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ing: (heavy) practical assignment and one or two take-home ass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3160" y="325080"/>
            <a:ext cx="86058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ules Sec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60000"/>
            <a:ext cx="77724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ly written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  : expr '+' te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  : term '*'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)'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finitions Section</a:t>
            </a:r>
            <a:br>
              <a:rPr sz="4000"/>
            </a:b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1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token ID 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start ex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16480" y="3044880"/>
            <a:ext cx="2338200" cy="1222200"/>
          </a:xfrm>
          <a:prstGeom prst="borderCallout2">
            <a:avLst>
              <a:gd name="adj1" fmla="val 18750"/>
              <a:gd name="adj2" fmla="val -8333"/>
              <a:gd name="adj3" fmla="val 9351"/>
              <a:gd name="adj4" fmla="val -16226"/>
              <a:gd name="adj5" fmla="val 51949"/>
              <a:gd name="adj6" fmla="val -6442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called a ter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4035600" y="4946760"/>
            <a:ext cx="2427120" cy="1304640"/>
          </a:xfrm>
          <a:prstGeom prst="borderCallout2">
            <a:avLst>
              <a:gd name="adj1" fmla="val 18750"/>
              <a:gd name="adj2" fmla="val -8333"/>
              <a:gd name="adj3" fmla="val 8759"/>
              <a:gd name="adj4" fmla="val -34009"/>
              <a:gd name="adj5" fmla="val -27861"/>
              <a:gd name="adj6" fmla="val -6605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rt symbo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n-termi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0840" y="325440"/>
            <a:ext cx="277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ideb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 produces a function called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CC produces a function called yypar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yparse() expects to be able to call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ylex(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your ow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don't want to write your own: Use LEX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0840" y="181080"/>
            <a:ext cx="277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ideb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7840" y="109512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nt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(it's a n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NU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it's an 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parsing is d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it's an err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-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533240"/>
            <a:ext cx="84740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+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*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840" y="1916280"/>
            <a:ext cx="82483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exp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+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*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expr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41480" y="1122480"/>
            <a:ext cx="7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 flipV="1">
            <a:off x="1835280" y="1402560"/>
            <a:ext cx="512640" cy="513000"/>
          </a:xfrm>
          <a:custGeom>
            <a:avLst/>
            <a:gdLst>
              <a:gd name="textAreaLeft" fmla="*/ 0 w 512640"/>
              <a:gd name="textAreaRight" fmla="*/ 439560 w 512640"/>
              <a:gd name="textAreaTop" fmla="*/ 341640 h 513000"/>
              <a:gd name="textAreaBottom" fmla="*/ 513000 h 51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7840" y="1677600"/>
            <a:ext cx="82483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exp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633840" y="489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flipH="1">
            <a:off x="3119400" y="4772160"/>
            <a:ext cx="512640" cy="512640"/>
          </a:xfrm>
          <a:custGeom>
            <a:avLst/>
            <a:gdLst>
              <a:gd name="textAreaLeft" fmla="*/ 360 w 512640"/>
              <a:gd name="textAreaRight" fmla="*/ 439920 w 512640"/>
              <a:gd name="textAreaTop" fmla="*/ 34200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7840" y="1709640"/>
            <a:ext cx="82483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+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*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494240" y="496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 flipH="1">
            <a:off x="3979080" y="4842000"/>
            <a:ext cx="513000" cy="512640"/>
          </a:xfrm>
          <a:custGeom>
            <a:avLst/>
            <a:gdLst>
              <a:gd name="textAreaLeft" fmla="*/ -360 w 513000"/>
              <a:gd name="textAreaRight" fmla="*/ 439560 w 513000"/>
              <a:gd name="textAreaTop" fmla="*/ 34200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3280" y="624996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ault: $$ = $1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447840" y="3973680"/>
            <a:ext cx="499896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v gram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du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ored, lonely? Try this!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7840" y="1788840"/>
            <a:ext cx="82483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gram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du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tab.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2222280" y="2583000"/>
            <a:ext cx="6346800" cy="825480"/>
            <a:chOff x="2222280" y="2583000"/>
            <a:chExt cx="6346800" cy="825480"/>
          </a:xfrm>
        </p:grpSpPr>
        <p:sp>
          <p:nvSpPr>
            <p:cNvPr id="203" name="Line 4"/>
            <p:cNvSpPr/>
            <p:nvPr/>
          </p:nvSpPr>
          <p:spPr>
            <a:xfrm flipH="1">
              <a:off x="2222280" y="2750400"/>
              <a:ext cx="2716200" cy="253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4828320" y="2583000"/>
              <a:ext cx="37407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ok at this and you'l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ver be unhappy again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10"/>
          <p:cNvGrpSpPr/>
          <p:nvPr/>
        </p:nvGrpSpPr>
        <p:grpSpPr>
          <a:xfrm>
            <a:off x="2417400" y="4527720"/>
            <a:ext cx="6280560" cy="709200"/>
            <a:chOff x="2417400" y="4527720"/>
            <a:chExt cx="6280560" cy="709200"/>
          </a:xfrm>
        </p:grpSpPr>
        <p:sp>
          <p:nvSpPr>
            <p:cNvPr id="206" name="Line 6"/>
            <p:cNvSpPr/>
            <p:nvPr/>
          </p:nvSpPr>
          <p:spPr>
            <a:xfrm flipH="1">
              <a:off x="2417400" y="4704480"/>
              <a:ext cx="2521080" cy="532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38840" y="4527720"/>
              <a:ext cx="37591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ows "State Machine"®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LEX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7840" y="1239840"/>
            <a:ext cx="82483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d        [_a-zA-Z][_a-zA-Z0-9]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pc      [ \t\n]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mi      [;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mma     [,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       { return IN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ar      { return CHAR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loat     { return FLOA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comma}   { return COMMA; }        /* Necessary?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semi}    { return SEMI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id}      { return ID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wspc}    {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28"/>
          <p:cNvSpPr/>
          <p:nvPr/>
        </p:nvSpPr>
        <p:spPr>
          <a:xfrm>
            <a:off x="7655040" y="2476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nn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bout this course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ed, not compulsory: Seti, Aho and Ullman,”Compilers Principles, Techniques and Tools” (the Dragon boo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 book, but still more than su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ies of relevant chapters can be found in the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ets are available at the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m for practical/take-home assignments, deadlin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Defini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start 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 CHAR, COMMA, FLOAT, ID, INT, S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47840" y="1528920"/>
            <a:ext cx="82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This production is not part of the "official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grammar. It's primary purpose is to recover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parser errors, so it's probably best if you le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it here.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ne :  /* lambda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line de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line error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f("Failure :-(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k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cleari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Rul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Rul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ecl :  type ID list { printf("Success!\n"); }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 :  COMMA ID li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S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:   INT | CHAR | FLO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Example: Supplementary Code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tern FILE *yy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ypar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 while(!feof(yyin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yerror(char *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/* Don't have to do anything!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950600" y="968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ored, lonely? Try this!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7840" y="1374840"/>
            <a:ext cx="8248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decl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tab.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CHAR 2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COMMA 2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FLOAT 2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ID 2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INT 2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SEMI 2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ymbol attribut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to attribute gramma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symbol can have a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numeric quantity in case of a number (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pointer to a string ("Hello, World!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pointer to a symbol table entry in case of a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using LEX we put the value into yyl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omplex situations yylval is a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LEX co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0-9]+    {yylval = atoi(yytext); return NUM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ymbol attribute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 allows symbols to have multiple types of value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%union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double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t    vbl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char*  str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ymbol attribute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63520" y="1684440"/>
            <a:ext cx="3087720" cy="192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union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uble 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        vbl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*    str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598920" y="2692440"/>
            <a:ext cx="1612800" cy="647640"/>
          </a:xfrm>
          <a:prstGeom prst="rightArrow">
            <a:avLst>
              <a:gd name="adj1" fmla="val 50000"/>
              <a:gd name="adj2" fmla="val 6225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00720" y="208584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acc 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45280" y="2405160"/>
            <a:ext cx="34826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y.tab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ern YYSTYPE yyl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06600" y="4349880"/>
            <a:ext cx="548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0-9]+      { yylval.vblno = atoi(yytex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NUM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A-z]+      { yylval.strval = strdup(yytex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STRING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flipV="1" rot="5400000">
            <a:off x="6006960" y="3902400"/>
            <a:ext cx="1798920" cy="1395720"/>
          </a:xfrm>
          <a:custGeom>
            <a:avLst/>
            <a:gdLst>
              <a:gd name="textAreaLeft" fmla="*/ 0 w 1798920"/>
              <a:gd name="textAreaRight" fmla="*/ 1541880 w 1798920"/>
              <a:gd name="textAreaTop" fmla="*/ 930600 h 1395720"/>
              <a:gd name="textAreaBottom" fmla="*/ 1396080 h 1395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210360" y="5521320"/>
            <a:ext cx="278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LEX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clude “y.tab.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7840" y="4425480"/>
            <a:ext cx="824832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1-2-3 =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(1-2)-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?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1-(2-3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Define ‘-’ operator is left-asso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1-2*3 = 1-(2*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Define “*” operator is precedent to “-”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447840" y="1386000"/>
          <a:ext cx="4267080" cy="28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386000"/>
                    <a:ext cx="426708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5"/>
          <p:cNvSpPr/>
          <p:nvPr/>
        </p:nvSpPr>
        <p:spPr>
          <a:xfrm>
            <a:off x="5081400" y="177336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65 Medium"/>
                <a:ea typeface="新細明體"/>
              </a:rPr>
              <a:t>(1) 1 – 2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038560" y="262260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65 Medium"/>
                <a:ea typeface="新細明體"/>
              </a:rPr>
              <a:t>(2) 1 – 2 *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4320" y="2565360"/>
            <a:ext cx="8775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: expr ‘+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-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-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*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/’ expr { if($3==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yyerror(“divide 0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$$ = $1 / $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‘-’ expr %prec UMINUS {$$ = -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93720" y="1163520"/>
            <a:ext cx="3406680" cy="1268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+' '-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*' '/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noassoc UM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pic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er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ning &amp;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practical viewpoint: LEX and Y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ediat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tion: techniques and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/peephole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and loop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flow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as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7840" y="1926720"/>
            <a:ext cx="82483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right ‘=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&lt;' '&gt;' NE LE 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+' '-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*' '/'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6764400" y="1927080"/>
            <a:ext cx="665280" cy="2448000"/>
          </a:xfrm>
          <a:prstGeom prst="downArrow">
            <a:avLst>
              <a:gd name="adj1" fmla="val 50000"/>
              <a:gd name="adj2" fmla="val 9199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517360" y="4375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highest prece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ig trick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YACC &amp; LEX to work toge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EX &amp; YACC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1243440" y="2556000"/>
            <a:ext cx="6651720" cy="2332080"/>
            <a:chOff x="1243440" y="2556000"/>
            <a:chExt cx="6651720" cy="2332080"/>
          </a:xfrm>
        </p:grpSpPr>
        <p:sp>
          <p:nvSpPr>
            <p:cNvPr id="254" name="Rectangle 4"/>
            <p:cNvSpPr/>
            <p:nvPr/>
          </p:nvSpPr>
          <p:spPr>
            <a:xfrm>
              <a:off x="4025880" y="2556000"/>
              <a:ext cx="1744920" cy="2332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cc/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>
              <a:off x="3060720" y="2959200"/>
              <a:ext cx="965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3060720" y="4407120"/>
              <a:ext cx="965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5770800" y="3667320"/>
              <a:ext cx="952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1243440" y="27306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lex.yy.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1335600" y="41896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y.tab.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6800040" y="34387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a.o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uilding Examp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160" y="1533240"/>
            <a:ext cx="86058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se you have a lex file called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canner.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 yacc file called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ecl.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want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r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s to build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lex scanner.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decl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cc -c lex.yy.c y.tab.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cc -o parser lex.yy.o y.tab.o -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scanner should include in the definitions section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7"/>
          <p:cNvGrpSpPr/>
          <p:nvPr/>
        </p:nvGrpSpPr>
        <p:grpSpPr>
          <a:xfrm>
            <a:off x="2192400" y="3481560"/>
            <a:ext cx="4093560" cy="3071160"/>
            <a:chOff x="2192400" y="3481560"/>
            <a:chExt cx="4093560" cy="3071160"/>
          </a:xfrm>
        </p:grpSpPr>
        <p:sp>
          <p:nvSpPr>
            <p:cNvPr id="264" name="Oval 4"/>
            <p:cNvSpPr/>
            <p:nvPr/>
          </p:nvSpPr>
          <p:spPr>
            <a:xfrm>
              <a:off x="2955240" y="5862240"/>
              <a:ext cx="3330720" cy="690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5"/>
            <p:cNvSpPr/>
            <p:nvPr/>
          </p:nvSpPr>
          <p:spPr>
            <a:xfrm>
              <a:off x="2192400" y="3481560"/>
              <a:ext cx="762840" cy="690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6" name="AutoShape 6"/>
            <p:cNvCxnSpPr>
              <a:stCxn id="264" idx="1"/>
              <a:endCxn id="265" idx="3"/>
            </p:cNvCxnSpPr>
            <p:nvPr/>
          </p:nvCxnSpPr>
          <p:spPr>
            <a:xfrm flipV="1" rot="16200000">
              <a:off x="1947600" y="4448160"/>
              <a:ext cx="1851120" cy="1137600"/>
            </a:xfrm>
            <a:prstGeom prst="curvedConnector5">
              <a:avLst>
                <a:gd name="adj1" fmla="val 48842"/>
                <a:gd name="adj2" fmla="val 49984"/>
                <a:gd name="adj3" fmla="val 48842"/>
              </a:avLst>
            </a:prstGeom>
            <a:ln w="381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may be recu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may be ambig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bottom-up Shift/Reduce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a t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 onto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t be reduced (How do we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es: Reduce using a r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: Get another t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CC cannot look ahead more than one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07880" y="2060640"/>
            <a:ext cx="3765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422960" y="419580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a = 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572000" y="22766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0880" y="2060640"/>
            <a:ext cx="3927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36800" y="46483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= 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572000" y="272880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572720" y="2060640"/>
            <a:ext cx="12780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651560" y="477216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572000" y="281952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572720" y="2060640"/>
            <a:ext cx="12780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592160" y="464832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572000" y="27288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57272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4458600" y="479124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572000" y="287172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516200" y="22766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pic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scheduling: improving I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-level optim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ations for cache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4458600" y="464832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572000" y="27288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516200" y="213372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98600" y="2060640"/>
            <a:ext cx="3668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539960" y="47196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638600" y="280044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639320" y="2060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4421160" y="450360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594320" y="25844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95040" y="198900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568400" y="457524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638600" y="265572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590360" y="2060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516200" y="46483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4572000" y="2728800"/>
            <a:ext cx="410364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52376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415800" y="2060640"/>
            <a:ext cx="3751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4383000" y="47005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0" y="278136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4572360" y="218592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77720" y="2060640"/>
            <a:ext cx="368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590360" y="47912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638600" y="2871720"/>
            <a:ext cx="386712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590360" y="2276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457200" y="2060640"/>
            <a:ext cx="3710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52376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45720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4523760" y="220500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77720" y="2060640"/>
            <a:ext cx="368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445716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5054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4450320" y="220500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404640" y="2060640"/>
            <a:ext cx="3762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39020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5720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360" y="220500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ilers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general organiz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4523760" y="47005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4572000" y="278136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4523760" y="21859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516200" y="46483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0" y="272880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52376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4649760" y="4556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572000" y="263700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4572360" y="20606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2060640"/>
            <a:ext cx="3710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516200" y="46274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4572000" y="270828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4516200" y="21128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2060640"/>
            <a:ext cx="3699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4516200" y="4556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4572000" y="26370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4516200" y="204156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582800" y="46274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4638600" y="270828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4582800" y="21128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498600" y="2060640"/>
            <a:ext cx="3668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516200" y="47196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4572000" y="28004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4530960" y="2205000"/>
            <a:ext cx="10951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DON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3160" y="428400"/>
            <a:ext cx="86058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7840" y="1409760"/>
            <a:ext cx="82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Consider following r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1600200" y="1982880"/>
            <a:ext cx="4567320" cy="13064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572760" y="357984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Following stat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045600" y="357984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expr IF expr stm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LSE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68400" y="4127400"/>
            <a:ext cx="43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ossible deriv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24800" y="4965840"/>
            <a:ext cx="37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IF expr stmt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IF expr stmt ELSE .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expr stmt ELSE stm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4988880" y="4965840"/>
            <a:ext cx="379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expr stm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ELSE . stm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ELSE stm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428760" y="4965840"/>
            <a:ext cx="3787560" cy="13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4992840" y="4965840"/>
            <a:ext cx="3787560" cy="13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44680" y="591840"/>
            <a:ext cx="81072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It is a shift/reduc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 will always do shift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lution 1 : re-write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1285920" y="3179880"/>
          <a:ext cx="670572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179880"/>
                    <a:ext cx="6705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525240" y="1752480"/>
            <a:ext cx="800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lution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915840" y="2421000"/>
            <a:ext cx="6139080" cy="2647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63160" y="428760"/>
            <a:ext cx="8605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5340240" y="2629080"/>
            <a:ext cx="3189240" cy="1268280"/>
          </a:xfrm>
          <a:prstGeom prst="wedgeRectCallout">
            <a:avLst>
              <a:gd name="adj1" fmla="val -45319"/>
              <a:gd name="adj2" fmla="val 658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rule has the same precedence as token IF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4578480" y="4390920"/>
            <a:ext cx="1625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ilers: organiz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on source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xical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analysis (e.g., type chec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4080" y="38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/Reduce Conflict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hift/reduc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ccurs when a grammar is written in such a way that a decision between shifting and reducing can not be m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e.g.: IF-ELS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To resolve this conflict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YACC will choose to sh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3160" y="528480"/>
            <a:ext cx="8605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Reduce/Reduce Conflict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Reduce/Reduce Confli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tart : expr |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expr : CONSTA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tmt : CONSTA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YACC (Bison) resolves the conflict by reducing using the rule that occurs earlier in the gramma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NOT GOOD!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, modify grammar to eliminat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Error Messag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Bad error mess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yntax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Compiler needs to give programmer a good ad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It is better to track the line number in L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332000" y="3933720"/>
          <a:ext cx="670860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933720"/>
                    <a:ext cx="670860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Recursive Grammar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7840" y="1600200"/>
            <a:ext cx="82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Lef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Righ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R parser prefers lef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L parser prefers righ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Object 4"/>
          <p:cNvGraphicFramePr/>
          <p:nvPr/>
        </p:nvGraphicFramePr>
        <p:xfrm>
          <a:off x="3473280" y="1376280"/>
          <a:ext cx="4132440" cy="12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3280" y="1376280"/>
                    <a:ext cx="41324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5"/>
          <p:cNvGraphicFramePr/>
          <p:nvPr/>
        </p:nvGraphicFramePr>
        <p:xfrm>
          <a:off x="3473280" y="3124080"/>
          <a:ext cx="413244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3124080"/>
                    <a:ext cx="41324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 Examp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n from LEX &amp; Y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 = 4 +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=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 =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 = 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 = 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essure = (78 + 34) * 1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63160" y="18108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Gramm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47840" y="1239840"/>
            <a:ext cx="82483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ession ::= expression '+' term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ession '-' term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      ::= term '*' facto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'/' facto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    ::= '(' expression ')'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-' factor 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UMBE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A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parser.h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ader for calculato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define NSYMS 2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maximum numb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f symbols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*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val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symtab[NSYMS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look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43584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029000" y="4827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676280" y="4827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6719760" y="4827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7029000" y="8254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7676280" y="8254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6681600" y="82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7029000" y="11685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7676280" y="11685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6681600" y="11685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7029000" y="15112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7676280" y="15112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6681600" y="1511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7029000" y="18543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7676280" y="18543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6681600" y="1854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7029000" y="21970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7676280" y="21970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1"/>
          <p:cNvSpPr/>
          <p:nvPr/>
        </p:nvSpPr>
        <p:spPr>
          <a:xfrm>
            <a:off x="6681600" y="2197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7029000" y="25401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7676280" y="25401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681600" y="25401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5"/>
          <p:cNvSpPr/>
          <p:nvPr/>
        </p:nvSpPr>
        <p:spPr>
          <a:xfrm>
            <a:off x="7029000" y="28828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6"/>
          <p:cNvSpPr/>
          <p:nvPr/>
        </p:nvSpPr>
        <p:spPr>
          <a:xfrm>
            <a:off x="7676280" y="28828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7"/>
          <p:cNvSpPr/>
          <p:nvPr/>
        </p:nvSpPr>
        <p:spPr>
          <a:xfrm>
            <a:off x="6681600" y="2882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7029000" y="32259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9"/>
          <p:cNvSpPr/>
          <p:nvPr/>
        </p:nvSpPr>
        <p:spPr>
          <a:xfrm>
            <a:off x="7676280" y="32259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0"/>
          <p:cNvSpPr/>
          <p:nvPr/>
        </p:nvSpPr>
        <p:spPr>
          <a:xfrm>
            <a:off x="6681600" y="32259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7029000" y="35686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7676280" y="35686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6681600" y="3568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7029000" y="39117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7676280" y="39117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6575040" y="3911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37"/>
          <p:cNvSpPr/>
          <p:nvPr/>
        </p:nvSpPr>
        <p:spPr>
          <a:xfrm>
            <a:off x="7029000" y="42544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8"/>
          <p:cNvSpPr/>
          <p:nvPr/>
        </p:nvSpPr>
        <p:spPr>
          <a:xfrm>
            <a:off x="7676280" y="42544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6575040" y="42544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40"/>
          <p:cNvSpPr/>
          <p:nvPr/>
        </p:nvSpPr>
        <p:spPr>
          <a:xfrm>
            <a:off x="7029000" y="45975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7676280" y="45975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42"/>
          <p:cNvSpPr/>
          <p:nvPr/>
        </p:nvSpPr>
        <p:spPr>
          <a:xfrm>
            <a:off x="6575040" y="4597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3"/>
          <p:cNvSpPr/>
          <p:nvPr/>
        </p:nvSpPr>
        <p:spPr>
          <a:xfrm>
            <a:off x="7029000" y="49402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7676280" y="49402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5"/>
          <p:cNvSpPr/>
          <p:nvPr/>
        </p:nvSpPr>
        <p:spPr>
          <a:xfrm>
            <a:off x="6575040" y="4940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6"/>
          <p:cNvSpPr/>
          <p:nvPr/>
        </p:nvSpPr>
        <p:spPr>
          <a:xfrm>
            <a:off x="7029000" y="52833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7676280" y="52833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8"/>
          <p:cNvSpPr/>
          <p:nvPr/>
        </p:nvSpPr>
        <p:spPr>
          <a:xfrm>
            <a:off x="6575040" y="5283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49"/>
          <p:cNvGrpSpPr/>
          <p:nvPr/>
        </p:nvGrpSpPr>
        <p:grpSpPr>
          <a:xfrm>
            <a:off x="7656480" y="5851440"/>
            <a:ext cx="112680" cy="622080"/>
            <a:chOff x="7656480" y="5851440"/>
            <a:chExt cx="112680" cy="622080"/>
          </a:xfrm>
        </p:grpSpPr>
        <p:sp>
          <p:nvSpPr>
            <p:cNvPr id="464" name="Oval 50"/>
            <p:cNvSpPr/>
            <p:nvPr/>
          </p:nvSpPr>
          <p:spPr>
            <a:xfrm>
              <a:off x="7656480" y="585144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51"/>
            <p:cNvSpPr/>
            <p:nvPr/>
          </p:nvSpPr>
          <p:spPr>
            <a:xfrm>
              <a:off x="7656480" y="612216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52"/>
            <p:cNvSpPr/>
            <p:nvPr/>
          </p:nvSpPr>
          <p:spPr>
            <a:xfrm>
              <a:off x="7656480" y="639396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parser.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"parser.h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ring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union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dv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&lt;symp&gt;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&lt;dval&gt;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ompilers: organization (cont’d)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part of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optimization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 to IR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very computational intensive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08080" y="601200"/>
            <a:ext cx="868176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_list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 '\n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_list statement '\n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ME '=' express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$1-&gt;value =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press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printf("= %g\n", $1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pression: expression '+' term { $$ = $1 +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expression '-' term { $$ = $1 -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08080" y="487440"/>
            <a:ext cx="868176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rm:  term '*' factor { $$ = $1 *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 term '/' factor { if($3 == 0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"divide by zero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$ = $1 / $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actor: '(' expression ')' { $$ = $2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'-' factor         { $$ = -$2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NAME               { $$ = $1-&gt;valu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look up a symbol table entry, add if not present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look(char *s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*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(sp = symtab; sp &lt; &amp;symtab[NSYMS]; sp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is it already here?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sp-&gt;name &amp;&amp; !strcmp(sp-&gt;name, s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!sp-&gt;name) { /* is it fre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p-&gt;name = strdup(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otherwise continue to next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"Too many symbols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it(1)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cannot continu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/* symlook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char *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f( "yyerror: %s\n", 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ypedef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ble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ruct symtab *sy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 YYSTYP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tern YYSTYPE yyl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fine NAME 2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fine NUMBER 2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7733520" y="616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.tab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alclexer.l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"parser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&lt;math.h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7446240" y="61610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clex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[0-9]+|([0-9]*\.[0-9]+)([eE][-+]?[0-9]+)?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lval.dval = atof(yytext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NUMB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 \t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/* ignore white spac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A-Za-z][A-Za-z0-9]*  { /* return symbol pointer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lval.symp = symlook(yytex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NAM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$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return 0; /* end of input */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\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.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yytext[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7446240" y="61610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clex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kefi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16320" y="457200"/>
            <a:ext cx="278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kefi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 = 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ACC = ya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C = g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lcu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o lex.yy.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o calcu y.tab.o lex.yy.o -ly -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c y.tab.h: parser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YACC)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d parser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o: y.tab.c parse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c y.tab.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.yy.o: y.tab.h lex.yy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c lex.yy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.yy.c: calclexer.l parse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LEX) calclexer.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487920" y="4722840"/>
            <a:ext cx="2314440" cy="177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le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*.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*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cal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ompilers: organization (cont’d)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on target proc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phole optim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6040" y="385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 Declaration Summa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82480" y="141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start'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  Specify the grammar's start sym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union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the collection of data types that semantic values may h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token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with no precedence or associativity spec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type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the type of semantic values for a nonterminal sym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63160" y="528480"/>
            <a:ext cx="8605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 Declaration Summa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right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that is right-assoc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left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a terminal symbol (token type name) that is left-assoc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nonassoc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that is nonassociative  (using it in a way that would be associative is a syntax error, e.g.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x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. 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. z is syntax err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 borrowe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y D. Pimen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21:20:36Z</dcterms:created>
  <dc:creator>Annie Benet</dc:creator>
  <dc:description/>
  <dc:language>en-US</dc:language>
  <cp:lastModifiedBy>Microsoft account</cp:lastModifiedBy>
  <dcterms:modified xsi:type="dcterms:W3CDTF">2022-08-23T07:22:17Z</dcterms:modified>
  <cp:revision>94</cp:revision>
  <dc:subject/>
  <dc:title>Introduction to Compiler Design</dc:title>
</cp:coreProperties>
</file>